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media/image9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7300D-4267-41FF-847C-71E3DA2AA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1310F-C4B2-4550-B113-FA72E8438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9982D-147F-424E-BEF3-5383A2F79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B6FD6-0E26-4112-8302-90B4FE209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20F01-3CB9-4C6A-8537-E38C02F3A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4930F-2042-43BE-9933-77A80A0DA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00C8E-DB2F-4C80-AC18-C1086CFFA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19FCD-1D4E-4B8E-BCF2-F98E876E8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137F8-E50A-434A-B3A7-D92495440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ED4FE-9B18-48A4-B253-222440810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C5414-73D1-4B2E-A414-7804B6B46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CE195-DAE8-4169-A590-D2F2E07FB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D93D3-6BD5-4FB4-A9FE-12AA1109DC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giantsquid.msstate.edu/LessonList/dissection.html" TargetMode="External"/><Relationship Id="rId3" Type="http://schemas.openxmlformats.org/officeDocument/2006/relationships/hyperlink" Target="http://giantsquid.msstate.edu/LessonList/dissection.html" TargetMode="External"/><Relationship Id="rId4" Type="http://schemas.openxmlformats.org/officeDocument/2006/relationships/hyperlink" Target="http://giantsquid.msstate.edu/LessonList/dissection.html" TargetMode="External"/><Relationship Id="rId5" Type="http://schemas.openxmlformats.org/officeDocument/2006/relationships/hyperlink" Target="http://giantsquid.msstate.edu/LessonList/dissection.html" TargetMode="External"/><Relationship Id="rId6" Type="http://schemas.openxmlformats.org/officeDocument/2006/relationships/hyperlink" Target="http://giantsquid.msstate.edu/LessonList/dissection.html" TargetMode="External"/><Relationship Id="rId7" Type="http://schemas.openxmlformats.org/officeDocument/2006/relationships/hyperlink" Target="http://giantsquid.msstate.edu/LessonList/dissection.html" TargetMode="External"/><Relationship Id="rId8" Type="http://schemas.openxmlformats.org/officeDocument/2006/relationships/hyperlink" Target="http://giantsquid.msstate.edu/LessonList/dissection.html" TargetMode="External"/><Relationship Id="rId9" Type="http://schemas.openxmlformats.org/officeDocument/2006/relationships/hyperlink" Target="http://giantsquid.msstate.edu/LessonList/dissection.html" TargetMode="External"/><Relationship Id="rId10" Type="http://schemas.openxmlformats.org/officeDocument/2006/relationships/hyperlink" Target="http://giantsquid.msstate.edu/LessonList/dissection.html" TargetMode="External"/><Relationship Id="rId1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seawifs.gsfc.nasa.gov/OCEAN_PLANET/IMAGES/squid_whaleskin.gif" TargetMode="External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seawifs.gsfc.nasa.gov/OCEAN_PLANET/IMAGES/squid_radula.gif" TargetMode="External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seawifs.gsfc.nasa.gov/OCEAN_PLANET/HTML/squid_video_credits.html" TargetMode="External"/><Relationship Id="rId3" Type="http://schemas.openxmlformats.org/officeDocument/2006/relationships/image" Target="../media/image8.png"/><Relationship Id="rId4" Type="http://schemas.openxmlformats.org/officeDocument/2006/relationships/hyperlink" Target="http://seawifs.gsfc.nasa.gov/OCEAN_PLANET/HTML/squid_defend_itself.html" TargetMode="External"/><Relationship Id="rId5" Type="http://schemas.openxmlformats.org/officeDocument/2006/relationships/hyperlink" Target="http://seawifs.gsfc.nasa.gov/OCEAN_PLANET/HTML/squid_defend_itself.html" TargetMode="External"/><Relationship Id="rId6" Type="http://schemas.openxmlformats.org/officeDocument/2006/relationships/hyperlink" Target="http://seawifs.gsfc.nasa.gov/OCEAN_PLANET/HTML/squid_defend_itself.html" TargetMode="External"/><Relationship Id="rId7" Type="http://schemas.openxmlformats.org/officeDocument/2006/relationships/hyperlink" Target="http://seawifs.gsfc.nasa.gov/OCEAN_PLANET/HTML/squid_defend_itself.html" TargetMode="External"/><Relationship Id="rId8" Type="http://schemas.openxmlformats.org/officeDocument/2006/relationships/hyperlink" Target="http://seawifs.gsfc.nasa.gov/OCEAN_PLANET/HTML/squid_defend_itself.html" TargetMode="External"/><Relationship Id="rId9" Type="http://schemas.openxmlformats.org/officeDocument/2006/relationships/hyperlink" Target="http://seawifs.gsfc.nasa.gov/OCEAN_PLANET/HTML/squid_defend_itself.html" TargetMode="External"/><Relationship Id="rId10" Type="http://schemas.openxmlformats.org/officeDocument/2006/relationships/hyperlink" Target="http://seawifs.gsfc.nasa.gov/OCEAN_PLANET/HTML/squid_defend_itself.html" TargetMode="External"/><Relationship Id="rId11" Type="http://schemas.openxmlformats.org/officeDocument/2006/relationships/hyperlink" Target="http://seawifs.gsfc.nasa.gov/OCEAN_PLANET/HTML/squid_defend_itself.html" TargetMode="External"/><Relationship Id="rId12" Type="http://schemas.openxmlformats.org/officeDocument/2006/relationships/hyperlink" Target="http://seawifs.gsfc.nasa.gov/OCEAN_PLANET/HTML/squid_defend_itself.html" TargetMode="External"/><Relationship Id="rId1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Squid</a:t>
            </a:r>
            <a:br>
              <a:rPr sz="4400"/>
            </a:b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ass Cephalopoda – “head-foot”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he head of the squid, which bears th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arms and tentacles, is a modified foot</a:t>
            </a:r>
            <a:br>
              <a:rPr sz="36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257800" y="1981080"/>
            <a:ext cx="3200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89000" y="2336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bluesquid" descr="Blue squid dive milne bay"/>
          <p:cNvPicPr/>
          <p:nvPr/>
        </p:nvPicPr>
        <p:blipFill>
          <a:blip r:embed="rId2"/>
          <a:stretch/>
        </p:blipFill>
        <p:spPr>
          <a:xfrm>
            <a:off x="1600200" y="2101680"/>
            <a:ext cx="6553080" cy="42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685440" y="1981080"/>
            <a:ext cx="3809880" cy="411480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Simeon_SquidMafia4" descr=""/>
          <p:cNvPicPr/>
          <p:nvPr/>
        </p:nvPicPr>
        <p:blipFill>
          <a:blip r:embed="rId3"/>
          <a:stretch/>
        </p:blipFill>
        <p:spPr>
          <a:xfrm>
            <a:off x="1692360" y="1131840"/>
            <a:ext cx="5761080" cy="459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Image Assista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ttp://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giantsquid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.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msstate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.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7"/>
              </a:rPr>
              <a:t>edu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8"/>
              </a:rPr>
              <a:t>/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9"/>
              </a:rPr>
              <a:t>LessonList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0"/>
              </a:rPr>
              <a:t>/dissection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Squid Pen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Invertebrate, no shell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but gladius (internal supporting structure)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TUSOTEU1" descr=""/>
          <p:cNvPicPr/>
          <p:nvPr/>
        </p:nvPicPr>
        <p:blipFill>
          <a:blip r:embed="rId2"/>
          <a:stretch/>
        </p:blipFill>
        <p:spPr>
          <a:xfrm>
            <a:off x="609480" y="2819520"/>
            <a:ext cx="7315200" cy="34858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666880" y="5715000"/>
            <a:ext cx="19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 Tentac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733920" y="464832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8 Ar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Squid Tenta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quids have 10 appendages –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four pairs of arms, containing two rows of suckers each, and a single pair of tentacles with suckers only at the end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Squidtent" descr=""/>
          <p:cNvPicPr/>
          <p:nvPr/>
        </p:nvPicPr>
        <p:blipFill>
          <a:blip r:embed="rId2"/>
          <a:stretch/>
        </p:blipFill>
        <p:spPr>
          <a:xfrm>
            <a:off x="685800" y="2619360"/>
            <a:ext cx="3809880" cy="283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Squid Predat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724280" y="12193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perm whales eat squid … imagine the battle that ensued that left these marks on the skin of the wha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squid_whaleskin_icon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410080" y="3733920"/>
            <a:ext cx="2638440" cy="3429000"/>
          </a:xfrm>
          <a:prstGeom prst="rect">
            <a:avLst/>
          </a:prstGeom>
          <a:ln w="0">
            <a:noFill/>
          </a:ln>
        </p:spPr>
      </p:pic>
      <p:pic>
        <p:nvPicPr>
          <p:cNvPr id="56" name="loates_squid_whale_head" descr=""/>
          <p:cNvPicPr/>
          <p:nvPr/>
        </p:nvPicPr>
        <p:blipFill>
          <a:blip r:embed="rId4"/>
          <a:stretch/>
        </p:blipFill>
        <p:spPr>
          <a:xfrm>
            <a:off x="685800" y="2062080"/>
            <a:ext cx="3809880" cy="39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Squid Bea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Beak for eating -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od travels down the throat and esophagus, which passes directly through the brain to the stomach.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squid_radula_icon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85800" y="2106720"/>
            <a:ext cx="3809880" cy="38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Squid Funn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28600" y="1600200"/>
            <a:ext cx="914400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he ink congeals into a squid-like shape that holds the enemy's attention while the squid turns pale and jets away. Click on the image above to see this happen (128 Kbytes mpeg). 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Video credits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squid_defend_diagram" descr=""/>
          <p:cNvPicPr/>
          <p:nvPr/>
        </p:nvPicPr>
        <p:blipFill>
          <a:blip r:embed="rId3"/>
          <a:stretch/>
        </p:blipFill>
        <p:spPr>
          <a:xfrm>
            <a:off x="2209680" y="2362320"/>
            <a:ext cx="3810240" cy="11905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533520" y="3733920"/>
            <a:ext cx="86104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http://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seawifs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.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7"/>
              </a:rPr>
              <a:t>gsfc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8"/>
              </a:rPr>
              <a:t>.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9"/>
              </a:rPr>
              <a:t>nasa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10"/>
              </a:rPr>
              <a:t>.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11"/>
              </a:rPr>
              <a:t>gov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12"/>
              </a:rPr>
              <a:t>/OCEAN_PLANET/HTML/squid_defend_itself.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09480" y="4495680"/>
            <a:ext cx="82296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Funnel: A squid swims by squirting water from the mantle through the funnel. The direction it swims depends on which way the funnel is aimed. The funnel is flexi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Squid In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Simeon_SquidInc" descr=""/>
          <p:cNvPicPr/>
          <p:nvPr/>
        </p:nvPicPr>
        <p:blipFill>
          <a:blip r:embed="rId2"/>
          <a:stretch/>
        </p:blipFill>
        <p:spPr>
          <a:xfrm>
            <a:off x="1752480" y="1495440"/>
            <a:ext cx="6019920" cy="48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lum Island, Massachusetts, in 1980, it is only the third giant squid found stranded on U.S. shores. Total length of specimen: 2.7 m (9 ft)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Weight: 200 kg (440 lb)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ex: fema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issing parts: long feeding tentacles and maroon-colored skin. They were lost when the squid washed ashore.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stimated length with feeding tentacles: 9 m (30 ft) 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419360" y="685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squid_plum_island_beach" descr=""/>
          <p:cNvPicPr/>
          <p:nvPr/>
        </p:nvPicPr>
        <p:blipFill>
          <a:blip r:embed="rId2"/>
          <a:stretch/>
        </p:blipFill>
        <p:spPr>
          <a:xfrm>
            <a:off x="990720" y="1832040"/>
            <a:ext cx="7696080" cy="486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1640" y="1981080"/>
            <a:ext cx="3886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squid" descr=""/>
          <p:cNvPicPr/>
          <p:nvPr/>
        </p:nvPicPr>
        <p:blipFill>
          <a:blip r:embed="rId2"/>
          <a:stretch/>
        </p:blipFill>
        <p:spPr>
          <a:xfrm>
            <a:off x="1811160" y="533520"/>
            <a:ext cx="48340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0:53:35Z</dcterms:created>
  <dc:creator>DIST225</dc:creator>
  <dc:description/>
  <dc:language>en-US</dc:language>
  <cp:lastModifiedBy>DIST225</cp:lastModifiedBy>
  <dcterms:modified xsi:type="dcterms:W3CDTF">2005-02-24T22:48:55Z</dcterms:modified>
  <cp:revision>16</cp:revision>
  <dc:subject/>
  <dc:title>PowerPoint Presentation</dc:title>
</cp:coreProperties>
</file>