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2D0-44B2-4FDB-8BE7-2036AB54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A28-0D33-4B00-BC01-2C83F7B3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446-11EF-41A9-9B15-477AE801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CF0-CAD6-42A0-8A98-8D80785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AC7-C86B-4947-8398-503062C5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474-2DD8-48B3-B94F-58DFC69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8F8-E521-41A7-8069-92024A3D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90C-AE90-4CB6-BAB4-2824B7FC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219-D2EA-4BC4-8A43-B9CC5792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742-058C-440D-B56B-478F891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067-438B-4E3E-9CFA-E9E1ADE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438-D169-4927-9104-010AE6A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2CC-FCB3-47CF-85F1-319A7632B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iantsquid.msstate.edu/LessonList/dissection.html" TargetMode="External"/><Relationship Id="rId3" Type="http://schemas.openxmlformats.org/officeDocument/2006/relationships/hyperlink" Target="http://giantsquid.msstate.edu/LessonList/dissection.html" TargetMode="External"/><Relationship Id="rId4" Type="http://schemas.openxmlformats.org/officeDocument/2006/relationships/hyperlink" Target="http://giantsquid.msstate.edu/LessonList/dissection.html" TargetMode="External"/><Relationship Id="rId5" Type="http://schemas.openxmlformats.org/officeDocument/2006/relationships/hyperlink" Target="http://giantsquid.msstate.edu/LessonList/dissection.html" TargetMode="External"/><Relationship Id="rId6" Type="http://schemas.openxmlformats.org/officeDocument/2006/relationships/hyperlink" Target="http://giantsquid.msstate.edu/LessonList/dissection.html" TargetMode="External"/><Relationship Id="rId7" Type="http://schemas.openxmlformats.org/officeDocument/2006/relationships/hyperlink" Target="http://giantsquid.msstate.edu/LessonList/dissection.html" TargetMode="External"/><Relationship Id="rId8" Type="http://schemas.openxmlformats.org/officeDocument/2006/relationships/hyperlink" Target="http://giantsquid.msstate.edu/LessonList/dissection.html" TargetMode="External"/><Relationship Id="rId9" Type="http://schemas.openxmlformats.org/officeDocument/2006/relationships/hyperlink" Target="http://giantsquid.msstate.edu/LessonList/dissection.html" TargetMode="External"/><Relationship Id="rId10" Type="http://schemas.openxmlformats.org/officeDocument/2006/relationships/hyperlink" Target="http://giantsquid.msstate.edu/LessonList/dissection.html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IMAGES/squid_whaleskin.gi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IMAGES/squid_radula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wifs.gsfc.nasa.gov/OCEAN_PLANET/HTML/squid_video_credits.html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seawifs.gsfc.nasa.gov/OCEAN_PLANET/HTML/squid_defend_itself.html" TargetMode="External"/><Relationship Id="rId5" Type="http://schemas.openxmlformats.org/officeDocument/2006/relationships/hyperlink" Target="http://seawifs.gsfc.nasa.gov/OCEAN_PLANET/HTML/squid_defend_itself.html" TargetMode="External"/><Relationship Id="rId6" Type="http://schemas.openxmlformats.org/officeDocument/2006/relationships/hyperlink" Target="http://seawifs.gsfc.nasa.gov/OCEAN_PLANET/HTML/squid_defend_itself.html" TargetMode="External"/><Relationship Id="rId7" Type="http://schemas.openxmlformats.org/officeDocument/2006/relationships/hyperlink" Target="http://seawifs.gsfc.nasa.gov/OCEAN_PLANET/HTML/squid_defend_itself.html" TargetMode="External"/><Relationship Id="rId8" Type="http://schemas.openxmlformats.org/officeDocument/2006/relationships/hyperlink" Target="http://seawifs.gsfc.nasa.gov/OCEAN_PLANET/HTML/squid_defend_itself.html" TargetMode="External"/><Relationship Id="rId9" Type="http://schemas.openxmlformats.org/officeDocument/2006/relationships/hyperlink" Target="http://seawifs.gsfc.nasa.gov/OCEAN_PLANET/HTML/squid_defend_itself.html" TargetMode="External"/><Relationship Id="rId10" Type="http://schemas.openxmlformats.org/officeDocument/2006/relationships/hyperlink" Target="http://seawifs.gsfc.nasa.gov/OCEAN_PLANET/HTML/squid_defend_itself.html" TargetMode="External"/><Relationship Id="rId11" Type="http://schemas.openxmlformats.org/officeDocument/2006/relationships/hyperlink" Target="http://seawifs.gsfc.nasa.gov/OCEAN_PLANET/HTML/squid_defend_itself.html" TargetMode="External"/><Relationship Id="rId12" Type="http://schemas.openxmlformats.org/officeDocument/2006/relationships/hyperlink" Target="http://seawifs.gsfc.nasa.gov/OCEAN_PLANET/HTML/squid_defend_itself.html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ass Cephalopoda – “head-foot”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head of the squid, which bear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ms and tentacles, is a modified foot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luesquid" descr="Blue squid dive milne bay"/>
          <p:cNvPicPr/>
          <p:nvPr/>
        </p:nvPicPr>
        <p:blipFill>
          <a:blip r:embed="rId2"/>
          <a:stretch/>
        </p:blipFill>
        <p:spPr>
          <a:xfrm>
            <a:off x="1600200" y="2101680"/>
            <a:ext cx="655308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imeon_SquidMafia4" descr=""/>
          <p:cNvPicPr/>
          <p:nvPr/>
        </p:nvPicPr>
        <p:blipFill>
          <a:blip r:embed="rId3"/>
          <a:stretch/>
        </p:blipFill>
        <p:spPr>
          <a:xfrm>
            <a:off x="1692360" y="1131840"/>
            <a:ext cx="5761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mage As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iantsquid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sstat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LessonLis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disse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Pe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vertebrate, no shell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gladius (internal supporting structur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USOTEU1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315200" cy="348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5715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Tenta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Tenta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quids have 10 appendage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 pairs of arms, containing two rows of suckers each, and a single pair of tentacles with suckers only at the e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quidtent" descr=""/>
          <p:cNvPicPr/>
          <p:nvPr/>
        </p:nvPicPr>
        <p:blipFill>
          <a:blip r:embed="rId2"/>
          <a:stretch/>
        </p:blipFill>
        <p:spPr>
          <a:xfrm>
            <a:off x="685800" y="2619360"/>
            <a:ext cx="3809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rm whales eat squid … imagine the battle that ensued that left these marks on the skin of the wh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quid_whaleskin_ico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3733920"/>
            <a:ext cx="263844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loates_squid_whale_head" descr=""/>
          <p:cNvPicPr/>
          <p:nvPr/>
        </p:nvPicPr>
        <p:blipFill>
          <a:blip r:embed="rId4"/>
          <a:stretch/>
        </p:blipFill>
        <p:spPr>
          <a:xfrm>
            <a:off x="68580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B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ak for eating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od travels down the throat and esophagus, which passes directly through the brain to the stomach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quid_radula_ico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06720"/>
            <a:ext cx="38098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Fu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00200"/>
            <a:ext cx="9144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ink congeals into a squid-like shape that holds the enemy's attention while the squid turns pale and jets away. Click on the image above to see this happen (128 Kbytes mpeg)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deo credit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quid_defend_diagram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3810240" cy="1190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373392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eawif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gsfc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as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gov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/OCEAN_PLANET/HTML/squid_defend_itself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49568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nel: A squid swims by squirting water from the mantle through the funnel. The direction it swims depends on which way the funnel is aimed. The funnel is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quid 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imeon_SquidInc" descr=""/>
          <p:cNvPicPr/>
          <p:nvPr/>
        </p:nvPicPr>
        <p:blipFill>
          <a:blip r:embed="rId2"/>
          <a:stretch/>
        </p:blipFill>
        <p:spPr>
          <a:xfrm>
            <a:off x="1752480" y="1495440"/>
            <a:ext cx="60199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um Island, Massachusetts, in 1980, it is only the third giant squid found stranded on U.S. shores. Total length of specimen: 2.7 m (9 ft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ight: 200 kg (440 lb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x: fema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ssing parts: long feeding tentacles and maroon-colored skin. They were lost when the squid washed ashor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imated length with feeding tentacles: 9 m (30 ft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93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quid_plum_island_beach" descr=""/>
          <p:cNvPicPr/>
          <p:nvPr/>
        </p:nvPicPr>
        <p:blipFill>
          <a:blip r:embed="rId2"/>
          <a:stretch/>
        </p:blipFill>
        <p:spPr>
          <a:xfrm>
            <a:off x="990720" y="1832040"/>
            <a:ext cx="7696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quid" descr=""/>
          <p:cNvPicPr/>
          <p:nvPr/>
        </p:nvPicPr>
        <p:blipFill>
          <a:blip r:embed="rId2"/>
          <a:stretch/>
        </p:blipFill>
        <p:spPr>
          <a:xfrm>
            <a:off x="1811160" y="533520"/>
            <a:ext cx="48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3:35Z</dcterms:created>
  <dc:creator>DIST225</dc:creator>
  <dc:description/>
  <dc:language>en-US</dc:language>
  <cp:lastModifiedBy>DIST225</cp:lastModifiedBy>
  <dcterms:modified xsi:type="dcterms:W3CDTF">2005-02-24T22:48:55Z</dcterms:modified>
  <cp:revision>16</cp:revision>
  <dc:subject/>
  <dc:title>PowerPoint Presentation</dc:title>
</cp:coreProperties>
</file>