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E17-CBDF-47EE-9155-5A181991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86C-550C-4C32-AD1C-7B6698FA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29A-8752-44E1-998F-79408A60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0B6-9992-4B76-8657-073CC215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332-3291-4306-837B-F41C199A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371-318E-4CE4-99EC-0AEA19D8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F72-098A-4D8E-88D4-BDDE4F93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ADD-BAEE-4B33-9B0F-4877422F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29C-89C0-42D4-97A2-9C746AFF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9DC-1995-4CB7-88D7-F6E4936C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869C-7939-4ECD-89AC-0A6F1882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BCC-250F-4BB8-B6E8-302CF48E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93EC-F896-4C43-A3EE-79B3E2297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: Breath of Air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ng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er sti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lloons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e instructo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ne per student pai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_x000b_l1lungs.gif                                                    00012E1F_x000c_Macintosh HD                   B5B51104:"/>
          <p:cNvPicPr/>
          <p:nvPr/>
        </p:nvPicPr>
        <p:blipFill>
          <a:blip r:embed="rId1"/>
          <a:stretch/>
        </p:blipFill>
        <p:spPr>
          <a:xfrm>
            <a:off x="4800600" y="2362320"/>
            <a:ext cx="38098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ung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800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ung volume measu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Largest possible amount of air which can be exhaled after drawing in a deep br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mount of air taken in or expelled during normal brea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piratory reser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mount of air that remains in the lungs after exhaling normally , but which can be expe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29240" y="1981080"/>
            <a:ext cx="228600" cy="4114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_x000b_l1lungs.gif                                                    00012E1F_x000c_Macintosh HD                   B5B51104:"/>
          <p:cNvPicPr/>
          <p:nvPr/>
        </p:nvPicPr>
        <p:blipFill>
          <a:blip r:embed="rId2"/>
          <a:stretch/>
        </p:blipFill>
        <p:spPr>
          <a:xfrm>
            <a:off x="5105520" y="1143000"/>
            <a:ext cx="403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6:15:08Z</dcterms:created>
  <dc:creator>Graphics Lab</dc:creator>
  <dc:description/>
  <dc:language>en-US</dc:language>
  <cp:lastModifiedBy>admin_dist</cp:lastModifiedBy>
  <cp:lastPrinted>2002-04-22T06:34:20Z</cp:lastPrinted>
  <dcterms:modified xsi:type="dcterms:W3CDTF">2009-11-15T19:27:21Z</dcterms:modified>
  <cp:revision>4</cp:revision>
  <dc:subject/>
  <dc:title>Lab #62 Lung Capacity</dc:title>
</cp:coreProperties>
</file>