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4F1-F60A-4AC3-89A2-CC7EDDEB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27C-25A9-4C2C-AA5E-DA124558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5AA-FE43-4D64-A478-B25FDE81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798-8E4C-4CF0-92D6-1829D839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F47-94EC-41C2-8970-5281A145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8E3-4FC6-4A93-AE1C-B40A059A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40F-5910-4F21-A6F1-2455F21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3FA-054A-41DC-BAC7-CB377D3E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B7E-2D71-46A7-BF5F-2CED747C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A83-AA13-4F19-8062-049D09D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A8D-1A74-44A6-BABA-C122FA7D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E69-26A2-4436-A505-7F909DD3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97C6-0734-4D98-9346-E916CF064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: Breath of Air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ng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er sti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lloons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e instructo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ne per student pai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_x000b_l1lungs.gif                                                    00012E1F_x000c_Macintosh HD                   B5B51104:"/>
          <p:cNvPicPr/>
          <p:nvPr/>
        </p:nvPicPr>
        <p:blipFill>
          <a:blip r:embed="rId1"/>
          <a:stretch/>
        </p:blipFill>
        <p:spPr>
          <a:xfrm>
            <a:off x="4800600" y="2362320"/>
            <a:ext cx="38098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ung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800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ung volume measu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Largest possible amount of air which can be exhaled after drawing in a deep br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mount of air taken in or expelled during normal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piratory reser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mount of air that remains in the lungs after exhaling normally , but which can be expe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29240" y="1981080"/>
            <a:ext cx="22860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_x000b_l1lungs.gif                                                    00012E1F_x000c_Macintosh HD                   B5B51104:"/>
          <p:cNvPicPr/>
          <p:nvPr/>
        </p:nvPicPr>
        <p:blipFill>
          <a:blip r:embed="rId2"/>
          <a:stretch/>
        </p:blipFill>
        <p:spPr>
          <a:xfrm>
            <a:off x="5105520" y="114300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6:15:08Z</dcterms:created>
  <dc:creator>Graphics Lab</dc:creator>
  <dc:description/>
  <dc:language>en-US</dc:language>
  <cp:lastModifiedBy>admin_dist</cp:lastModifiedBy>
  <cp:lastPrinted>2002-04-22T06:34:20Z</cp:lastPrinted>
  <dcterms:modified xsi:type="dcterms:W3CDTF">2009-11-15T19:27:21Z</dcterms:modified>
  <cp:revision>4</cp:revision>
  <dc:subject/>
  <dc:title>Lab #62 Lung Capacity</dc:title>
</cp:coreProperties>
</file>