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CC7-994B-4932-A1D3-F483E012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460-7A9D-4D82-AD98-49E1251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5DA-A060-4AC9-AE78-13518796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185-F3CD-4D99-9B60-8E883902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175-E5BD-41F5-979D-0D873086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B41-5A67-4C93-9173-CCC2C43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B1C-B25D-4AFC-A565-F557B55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0A9-DCCB-4362-B39A-27FC6A0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E35-C594-4224-96B8-9C1263E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86F-27CB-43CE-9F8B-BF29912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D73-2CC1-447D-A12A-B670BFDA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EEF-2D33-4ED6-96B1-06AD5CA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192D-94EA-4590-BB1E-F120DDF91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: Breath of Air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er sti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lloons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instruct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ne per student pai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_x000b_l1lungs.gif                                                    00012E1F_x000c_Macintosh HD                   B5B51104:"/>
          <p:cNvPicPr/>
          <p:nvPr/>
        </p:nvPicPr>
        <p:blipFill>
          <a:blip r:embed="rId1"/>
          <a:stretch/>
        </p:blipFill>
        <p:spPr>
          <a:xfrm>
            <a:off x="4800600" y="2362320"/>
            <a:ext cx="3809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ung volume measu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Largest possible amount of air which can be exhaled after drawing in a deep b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aken in or expelled during normal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iratory reser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mount of air that remains in the lungs after exhaling normally , but which can be exp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29240" y="1981080"/>
            <a:ext cx="2286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_x000b_l1lungs.gif                                                    00012E1F_x000c_Macintosh HD                   B5B51104:"/>
          <p:cNvPicPr/>
          <p:nvPr/>
        </p:nvPicPr>
        <p:blipFill>
          <a:blip r:embed="rId2"/>
          <a:stretch/>
        </p:blipFill>
        <p:spPr>
          <a:xfrm>
            <a:off x="5105520" y="11430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6:15:08Z</dcterms:created>
  <dc:creator>Graphics Lab</dc:creator>
  <dc:description/>
  <dc:language>en-US</dc:language>
  <cp:lastModifiedBy>admin_dist</cp:lastModifiedBy>
  <cp:lastPrinted>2002-04-22T06:34:20Z</cp:lastPrinted>
  <dcterms:modified xsi:type="dcterms:W3CDTF">2009-11-15T19:27:21Z</dcterms:modified>
  <cp:revision>4</cp:revision>
  <dc:subject/>
  <dc:title>Lab #62 Lung Capacity</dc:title>
</cp:coreProperties>
</file>